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33D0E4-DA2C-4B9C-94CB-8ED36BD92553}"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51A45-B049-432B-AC0E-A7436C2F0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64F59-BD71-483B-91B6-61B8678C4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E0F27-CC66-44C2-9144-97DB92C29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DBF2A-E025-486F-A4BB-F59053A16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3BAF0-E67B-44DA-B30D-297206FB9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CA95E-50E2-46CF-9772-F9554AA60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F29D0-76C2-4BD6-BCD9-8015C5006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6D162-22EA-4C13-9530-7A1D142D3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CE771-178A-433A-AEF2-3D8668A75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8A8AC-D500-491D-841A-C325A575A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5409F-5554-4A1A-84BA-86877B980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9CA6F-3E89-4D7A-8CC0-63A6BE60A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8581E-CD5A-4ED7-B765-778FC74D1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42940-CBC5-4386-BB1E-301BD373F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0732C-B53C-43BF-8BB2-1CFD19958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688D7-FE9B-4BCD-AC8F-93DB9DB1B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D3CB0-8C5E-4868-B31F-E89807D80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CF94E-4A8B-4EBA-AEBC-DA0A6218D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7B638-B01B-46E3-BAD6-F036CA1B1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CBE1C-AAD6-42BF-B8C0-4F679EB28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F5114-4BC3-4F67-A52B-97F5A6B9F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7DB7A-9CF6-4F27-8FC1-8773B1A1A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A1146-5163-4C78-9CD1-0D977D33C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F8C17-B941-470E-AADA-167EC36F6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EF94B-658A-48E5-B169-62BB92B6A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A2804-BBEE-4421-97B8-64A7998F0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5A343-3EF0-41A0-AACB-9FC7F11B4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4EA9B-A4EE-4599-82D6-D8D562087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1B43C-C353-4EA8-A242-46BD7396B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D8262-4211-4B1F-A81C-9EAE1E2E9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0863E-80BC-4C16-8942-031DD7BC4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B0C6B-5785-4D2D-89B4-AF9A1E061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186836-3CFC-4D80-A003-2D1208D93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FCE58-6738-4DD0-B378-EF1510A2A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806AA-99A8-4D6B-9A49-9ADCF3E03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2EE3F-99B4-41F4-90BE-6BC1EE9F3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6BB67-B7C2-4CD7-A73C-2ED06C536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88245-A40D-47B8-931C-56B5DDBA1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1AB6E-7C6C-4969-AAA9-5E36546E6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5C051-3AFB-4243-825C-CA4A5C2A6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98D25-41B7-4D3B-BD75-6A139115A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BB875-FED2-482D-BBB1-03A590AA2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E1845-265D-47F1-A0A6-A6823962E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A307E-718A-4FAD-9E16-55D95D35B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41B09-0F36-4ED0-9BC6-39EB55C61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86E2D-07EE-4B07-882F-639260751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334D6-D95D-4531-AD48-BEFA0EA34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7537B-A653-46D6-8D58-6D9DA0485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3AD87-8DCC-4443-899C-E7303FD64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D4A26-EF83-4AC8-A738-97D1A2EF8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364E6-80FF-41F3-A4F2-2BEC1321D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FD0A6-5184-42C1-825D-E51F1F8F7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FDD7B-C1A1-4B54-9DED-C28C1FD48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1000E-67C1-435F-917A-4DF3D02A0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E7D1E-5AB2-4F18-8656-8151C03E2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8DFD0-62AF-49F9-AA6C-7B1D763A4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C4F14-EDFC-42A9-981F-ADF09F0E4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F56CC-9402-4169-841D-658B3AA3F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6ADDC-3530-44BA-9329-B44343079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6A381-5B7B-4A2B-9717-83D6D27BE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988EE-B8B2-4239-B270-BE3559C8B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EDC84-F1E4-43D3-9D1E-5F303DC8D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4486B-0041-462A-BDF1-9F38442EB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CDD7F-0631-43D0-B2BA-5381D6764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771AA-6B16-4482-A8A1-F5AA638D1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DDBA0-D794-4888-B4FA-F7C10B733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1C43053-832B-44ED-A5CC-0333155306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8357CB8-67F9-47FE-8208-77D4CB646A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59755EB-A6C7-4CD5-ACF0-5358906BA3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1ED636D8-D33A-4BD9-8D7E-5B9D622DD5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E1B8AEE-B983-4AED-8AA7-3A42B68E74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917C6A4-3942-43B8-9E8F-0701B17C9BF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17CC5F3-2EA9-4504-8EB4-DF7713AF47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A863769-29FB-4531-BD26-D28A96356C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EB03E44-BEB7-458F-A898-6B25432A1F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BAA455A-03BA-47EC-A83F-6C02D6D4C5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D2B77CD-5DDF-49E7-9F67-6E915CED57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2A3501D-5FD0-43C4-9656-879C2E3E065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78D2D7F-6FAE-4E9C-9333-21929BEC58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53F46C2-4491-4025-980A-95EEB4CF78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35FFA8B-DF97-460E-92D1-69AEA863F7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36F325B-CFA2-44C0-B0D5-0BC50A9AA3F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FD76B57D-8718-492A-B95F-3BA3833CDD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9394227-D12F-404C-9DC9-7933EDAA51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05DD4DE-DEB0-4161-A9BC-4B390FCAD2B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E65F360-52AF-449B-BCA3-41685F1462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E8B2A5A-4A7A-409E-85F0-50DDE2FF0A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16BF33D-AE0C-44B3-AAD8-3638619407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7709EA0-6F26-4A54-AD10-78D1912D97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54C642C-2698-436D-A8C2-3E7CD0147A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2BFC440-897A-4BF3-85BE-C29F7E8E6C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E348BE0-4C9F-4C6B-96C4-124786FF38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5EF241E-8B3C-4CD3-BCFE-8349E1FA772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D7A69D6-4595-4795-8A4B-967D72C11D7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2429A28-9050-49B2-AF1A-B5C72267A1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4D34026-705C-4E49-A061-D9D7CC1964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7CA69D5-8273-4228-B4DA-99B8272A50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B0349CA-F9A3-4995-A529-C25BF37032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3CED482-AEC7-4F78-A8E0-A88E7BF585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62A758-A5E7-4B8B-B229-C99D7D34DEE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D1844D1-E943-4851-95C3-86016CC4624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47E0689-4199-4D27-83A6-43BC1A2C27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2703ACC-8318-4E44-B769-F4FBCF37CA4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A2512A9-3DBF-4AF9-8A47-71F65C7AA17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630B3EB-9114-4D66-A22E-D9BABE1B60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D4BBB2B-617A-4B7C-9AF7-E1A3398806B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900C793-7729-463A-AC53-95C7BE707A7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9EBF586-89DE-47C0-8F3D-E101E6385C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E4267EB-8B81-4BAE-974E-A09255A635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DE31FF6-6E40-43FE-988D-5CC7A841EA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872DD8C-A447-4235-908C-552C0ED9254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B1610E2-2FCF-4D28-B36D-37A51CEC415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D0DCA23-D307-4298-AD00-6260BDE6D7F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8EB2706-D07A-4DDB-B830-BA9C1D2EB6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8CC7282-C13A-4F10-B03C-D8346D91E8D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A200898-F959-4919-A0BC-F979F5AE65A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EFB4EB1-17A8-4E05-87B9-80EBC68EF9A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3042BA9-78BA-486D-9423-DFBDEDF7A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1402D83-32A5-4111-AC4D-885F718F51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A018B8B-3579-41DC-B45C-88B23A0EA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8A262E5E-A6D4-461E-90DA-D88D57B252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B5EBD9A-71AB-4881-8FB1-7B4D754D3F4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A61813F-970E-4303-A389-37D789F590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9F05B55-5BFB-40C5-BBE6-8020542953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40E4A5B-FB18-409D-83C3-499CAD426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C15943D-4B45-4529-A406-AB7EB1F80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1F2E131-3545-41C7-BAB2-20A824D56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93FAD01E-14AB-4B16-BFFA-1AB361B22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F6EF3FF-8D53-447D-9E74-02C7D5CCB44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0CF4267-BD23-41F5-ACF8-B9168A3655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404EE3F-5BFE-465B-872F-F8DFBB7D91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B9D7213-A88B-4ADA-AD56-F45255A752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718E848-FA48-4C91-9D37-841A0B2FEC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093F368-20EE-4E2F-BC09-DF9913B111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EC9A1E-8B9D-4EB9-96BF-60DD0E793B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74C16AC-3155-4902-BDC1-170518E4A6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6D6707A-200A-498B-9E2B-E06E3C0F60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076C54A-05FE-496B-ABAE-D3C3541B0B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3067B46-6AF1-4A41-8621-4FFE3FA5BF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AEF819-75EA-43D8-9519-332D892D4C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3B1B2A-FD08-4758-9A4F-2E3F5F0804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C5E227-EEB8-4830-B71A-C30886A5BD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F13B18B-A59B-47D2-8621-1BD72B4534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8889EF-F840-4F78-831C-1AE22A6051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124B535-2B04-40DD-A579-49ECD786BC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21A00A0-C271-4A3B-93F8-87279106D87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4BB4EE7-C780-4EA7-AF6C-11D4575B57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EB43D4E-8BC4-4832-8C05-DA80A29B64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301B0D8-91B6-4DAB-B4DE-2B8E388916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8CC13F2-CB04-476F-87F5-43CCDE1CA9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D2B35EB-3167-46AA-A4CC-A16C8D81DA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E4294EC-EE10-4356-84E7-A5B042B8305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32EED9-B96F-481A-96E3-6389C478C5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C0355AB-030E-4AFA-A9C8-CB927DCB07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9DFABCB-D95C-43DB-9FCC-2411B26E91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B8493CC-9F87-4924-B50E-71F5659064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260132E-6997-474E-A7FB-E1914E7A84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7075898-452F-43B5-BE36-CD902D55BFF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0C34931-EE68-4A5C-BB7B-80B6132005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62EF02E-2ED9-4B33-A03E-75B79E0CE9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996F07E-E4AD-4BDC-9939-D0BB1746AE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27F2D1F-0CDF-4D82-BF1B-0FB26EEA0EC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BAF561E-E492-4418-8321-D91F52CF69A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5B90BB3-D081-4EF0-BC5C-964961AB53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E0A243F2-BD42-45CB-9EA1-A69316DD93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15E6B4A-E3D2-4101-AF7C-216DF7FF6A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09C41F0-7E3E-4C64-B9BE-C1616E497B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07F58F2-E566-441A-ACB2-3FEA0CB7A17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8F6C89C-5473-40C8-8B81-98BA2FD10FF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3AC5A08-C559-4EF1-BA5C-99BAD0A8570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89B536E-3EF0-45C5-BFE0-4DE9190A8D7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119EC41-C374-4B26-9A88-8B6F17DEDD4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EDF3105-3235-40FC-8878-33881EA3C8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2EB94B9-E894-4DF2-A84C-1FF0D97657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C039249-5FE0-43BE-954D-49A8BA9752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5EE7CC7-7236-47B0-B90B-64E6D19FF7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C8FA6DD-C622-4B08-B2B0-8E160CE6F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D304256-AF1B-4EBA-9331-3AAB2F83A0B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FE7884A-A224-4128-8B3A-EBBD3871753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50FF518-D96C-4209-A5BB-8B60F108F0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0DC4573-15E1-412E-AD9F-25A4825389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1EE01C3-52D5-456F-9CC9-6707478B1B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1D18792-5EBD-4108-9F65-7B6A07B652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7C133A0F-D6EB-4487-96BE-DE2A57524B5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F82B764-5BC3-415E-9090-9715F5DF043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63EC9AF-C206-46E4-83CB-637F05508DA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0174FD4-3E61-47EA-A1C2-277B785F3E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14293B4-D1D8-4F80-89A5-9DC2BE66EA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E69C8DD-EE34-4712-80D7-6B0E97CE5B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BE68143-7279-4B5D-B42A-608D55C27D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64D578E-C700-4B2E-B061-DA50A612A2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6187A76-83A3-4CD8-AC01-5F0FBB0E57C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43B347-61B8-48F1-9F29-3B22CFEC1D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1A7C0B9-1E29-46E8-AB97-71A9D5F9FED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1B4E44B-3924-4CAA-A8A6-3F1A6F360D2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92CE5EA-7449-449B-AAA0-79E2211BF41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68176C9-5F97-4088-9793-1D56915FFC7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6E69D16-0E2D-4874-822C-219AB702892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62C0217-0E98-4E52-AAA4-234BCE47A7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B12E600-AA69-4B98-AAA6-00E2A65208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A125C73-E98D-4F57-A64D-6E29F1D274C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B46D61A-720E-4C76-861E-0FC2F4B7F0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12E6587-8C40-4D08-A064-4AA24BD7F04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8D40E1B-E2C3-4E62-8439-862323AF344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FC47946A-1329-4CBF-BABF-15E88A8B05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D5B6ADF-891C-47A6-921D-1BE071F709F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1862DEF-F335-42EC-B364-8A9F08DF8A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E3D76E8-FC4B-4661-BD77-2AD05657E3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F7893FC-5630-4E54-A0AB-1960A0B54A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53CC9D5-FCB1-40AF-B999-5D015996F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B859612-3934-4042-86A2-29462ED73E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958C1DB1-BFF7-4F18-81DD-D9A0F2FA32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B3D1F8A-B1E8-4C17-B5EB-E18645AF9E4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37263FA-6100-43A6-8BEB-2638E9C5A08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CD0F6D8-5A44-4BB9-A626-494431FC53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1B97AC6-D5CA-42A4-8391-71287FCA3F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D9C1C40-EF30-49DA-A46C-ECE7C8D51D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3364B3D-88A4-4480-BD55-491937C44C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D0C95AD-A5B8-4CC8-B93B-F6BEB03BA48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9B19DA2-C77E-4722-8851-85F44F42BC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66B9C49-235E-4166-B7B6-8A3EBEBD36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3EFD2-39AB-4B74-A662-1E592059AC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CD401-90CB-48BF-95B9-CD6B6C02A2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C0477A-41EE-4742-8D30-5CB1480B83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A9794-AF1A-467D-A485-EE9612A9C6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7EEEA-6210-43BB-8F9C-59D3876B79F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3F03F-77CA-451B-B662-5D59DDE231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D6095-55E8-4F50-8A93-1F1F898917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06B91-A80D-4053-B42A-36F78E7C9D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DC5C8-6B1D-4029-A2F9-606DC8892F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0ED09-B722-4607-94D7-4B004962FD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651A7-5A4D-4F8A-BE89-45FFAE9610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3B0C9-9702-4C5C-8C7F-4D0DAD50A4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48F5C-D588-4596-AEDA-34764B7D43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1392120"/>
            <a:ext cx="8348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68436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212840"/>
            <a:ext cx="84960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79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539640" y="1212840"/>
            <a:ext cx="8348760" cy="45720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00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35" name="" descr=""/>
          <p:cNvPicPr/>
          <p:nvPr/>
        </p:nvPicPr>
        <p:blipFill>
          <a:blip r:embed="rId1"/>
          <a:stretch/>
        </p:blipFill>
        <p:spPr>
          <a:xfrm>
            <a:off x="0" y="0"/>
            <a:ext cx="9144000" cy="1368360"/>
          </a:xfrm>
          <a:prstGeom prst="rect">
            <a:avLst/>
          </a:prstGeom>
          <a:ln w="0">
            <a:noFill/>
          </a:ln>
        </p:spPr>
      </p:pic>
      <p:pic>
        <p:nvPicPr>
          <p:cNvPr id="1136" name="" descr=""/>
          <p:cNvPicPr/>
          <p:nvPr/>
        </p:nvPicPr>
        <p:blipFill>
          <a:blip r:embed="rId2"/>
          <a:stretch/>
        </p:blipFill>
        <p:spPr>
          <a:xfrm>
            <a:off x="1258920" y="2060640"/>
            <a:ext cx="1297080" cy="1528560"/>
          </a:xfrm>
          <a:prstGeom prst="rect">
            <a:avLst/>
          </a:prstGeom>
          <a:ln w="0">
            <a:noFill/>
          </a:ln>
        </p:spPr>
      </p:pic>
      <p:pic>
        <p:nvPicPr>
          <p:cNvPr id="1137" name="" descr=""/>
          <p:cNvPicPr/>
          <p:nvPr/>
        </p:nvPicPr>
        <p:blipFill>
          <a:blip r:embed="rId3"/>
          <a:stretch/>
        </p:blipFill>
        <p:spPr>
          <a:xfrm>
            <a:off x="6948360" y="1989000"/>
            <a:ext cx="1444680" cy="1573200"/>
          </a:xfrm>
          <a:prstGeom prst="rect">
            <a:avLst/>
          </a:prstGeom>
          <a:ln w="0">
            <a:noFill/>
          </a:ln>
        </p:spPr>
      </p:pic>
      <p:sp>
        <p:nvSpPr>
          <p:cNvPr id="1138"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39"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112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6:45Z</dcterms:modified>
  <cp:revision>164</cp:revision>
  <dc:subject/>
  <dc:title>Παρουσίαση του PowerPoint</dc:title>
</cp:coreProperties>
</file>